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86A-1520-4513-9246-2016A022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475-F371-46CD-B29B-3E5018AF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8C3F1-7EDC-4807-B9CE-04B5D828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E8D41-B7CB-46B4-A85B-5137CF1B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10141-0408-49BD-945A-A581A6A7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C1428-1C44-42AC-B4E1-B6229BE4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E66E4-780D-4010-8349-43F8CC3F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23A66-8929-44E3-A0D3-66389BF3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801F1-777C-4913-BD37-87F96821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5747F-9715-46B4-9EFD-B1E22DDB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623A6-4EED-4A7B-890D-BF2D58D8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8303C-E9E2-490F-9E2B-593C0CB5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7BF-9BC3-4010-A69B-6B5704F6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43026-034D-4919-B7A3-7188CF38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1ED8D-C52F-42A0-B7ED-C683D0F0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C4C3B-B895-41A9-A2D1-E518DFE4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86011-4212-4336-A803-4E3F0152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122C1-9754-4A63-95CD-753293BB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BAE66-F65D-4966-B640-50FCF2BC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5FED9-E9C0-424F-A422-2F7E21DE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8FDFE-5F88-4136-A0BD-AC55D159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0845F-1900-4EA1-9B20-9D5A9D23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662B0-8E8C-4C7F-9EC9-EBEDDBC7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07C-DDFF-4556-9881-7C8B4C7E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5E8FF-6756-4849-AC74-560BD5F8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8941E-4ED0-4DFE-BD0B-79689AD0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D37E7-E7AA-43DC-9D6F-D459E96F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90161-E550-4ADA-828B-382249F2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E373B-A34D-4374-B0BA-9CEC9829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FB6C5-F12A-424A-BB2E-C732645E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2B411-A262-4984-BFF4-F5674267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F7513-937C-4D9E-B8F7-A5D9B031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38D58-8135-4C5E-A9D9-34642033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6DE12-1069-418D-BA6F-44D5C791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A9D8-A595-4C7C-A7F3-B258CBDE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485E4-69D0-458C-869B-A422BC14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80D39-C748-4A99-8367-204AA16F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C3648-D929-4985-A70A-A48E2721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7F508-8BF4-433D-95E6-01DDE741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E0550-6F30-4ADB-85BE-936462B7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F433AC-76A6-4B3D-BC54-804A7E74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CF653-2ACC-46D9-BEB9-FC0FBA38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94EFF-9D9D-4C36-B3B3-4AA5BD99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80FEF-C29D-4A9F-A5D5-2F2DADBE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97A51-253D-41E5-9D2E-AECA5C53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3F53-4798-492A-8730-A09E24DD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4E20D-73C3-477A-B54D-8E666085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49723-C396-497C-BC86-0109FA3A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A0266-795C-4DD8-96C8-AE3977EA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34B8F-B732-4065-94A4-4D188A2E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9CE98-E7D8-49CE-9EBC-14377F30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109ED-9F00-45D4-83D3-3D1FD838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7D398-E6BA-4D9A-88FE-38960526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6B365-9125-4E59-8A28-A00354F4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2A12F-1DE8-4F2B-90A5-F1465944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75A7D-C384-4B3D-A061-F04B8679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21C1-B470-4C81-B53D-82497B01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12231-F38A-4590-8545-6C668733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A61A7-C8A0-4EB7-B8FA-63FBB1AF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99A48-71F1-49FC-AD6F-2595407E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DCD63-C899-4540-BB02-E68B8F23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30635-3BDC-40E1-9B68-ED51A0AF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EF0BA-E229-49CB-A31C-853E0643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D448F-04B7-4EB0-95FE-A2869282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1A1BC-6D14-4E18-8814-A57E73AE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6DE1D-1CC2-4407-90B1-2AAD6793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D63CE-1070-4EF5-90E9-CFCF2B1E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0AF7-1FB1-4D68-9DF7-0C813A12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42CCD-F6E0-41A9-99DE-DC6EE9AD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713A2-20F9-455A-8FFD-41C6ACDE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2FA3F-240B-4930-940D-F1BC39EA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888A8-88CF-4B03-84C2-8A671475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D6237-4D22-4BF2-8DCA-432F2364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008A7-0748-45B1-8D74-2F8DA9D7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863AB-3920-4F6B-B5CC-D20F15D7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3F248-CAF2-4E5F-BF0D-90010517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EC17A9-1B28-485A-B4D3-12A6D316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1FD251-D77B-453F-A741-B1B60C26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C14E-0507-4336-BCCE-272CA6FC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4D2E7-0205-4EA7-91AF-F0B331D3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243B2-A278-40C4-B1E7-D05CF22D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403F3-86C7-410E-89B3-9A636527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1552BD-DE54-4052-90BB-4FDE3777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1F3929-E92F-4A52-B270-239E7A5B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F3B16-98CD-4C63-B22D-870EEC06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11C93-A5DE-445C-9997-AF13C3CC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D7562-AFC3-4DC1-BFC1-45BF7084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478609-0473-43F5-8AF4-AE2EBCED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00752F-A345-484F-95D8-0CC729B3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D988-EF7E-4BC5-A6CD-DF1E7614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0DF243-CB30-446A-BC3D-B071CFDC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C8DFE-3DA6-46DD-9F1D-2018304A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C2F84A-3A09-4F1C-BB35-D889B060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C1481F-A013-4AC1-9375-C1966A35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D29C0-ABD3-4FC9-A603-F730D519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C48F8A-E224-4D07-B291-AA9ACD27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838039-30FF-4BE1-821D-03B280B2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51FB3-EFBB-4B10-AF6E-12B53B71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E9F6D-74EC-4318-965B-A8A33256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DC1292-8C59-4DC9-AF73-D7221095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1F9F-D555-45F7-A3DF-CCBA9F26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DBE91C-3434-4B70-A875-89B3F26C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75C9F5-4C94-4EAC-95E7-AB4C092C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366A97-FFB5-4F5F-9855-CC502B32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6C388E-6F59-48E0-91E2-61E959A9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CD7AB4-1D11-4A6F-B411-9E53BB83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A93FF-C09B-40F7-9711-962681CB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2BCB49-B517-4EF3-AA65-37EBE9D4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380C41-C9C3-4163-B5D5-287E4640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FA902A-FEAE-44B1-9A1D-85240BFA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27A466-B738-4EFC-92F9-95FBB68A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F77-78C8-428C-AD4B-14F53ED4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2682-DE85-4FCB-8519-067EE2E4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4321D-7B35-422E-985D-8F607ABA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44998-A2DE-4808-B8DB-747D389C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413C28-BB4B-49E2-ACA4-BEC74949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D534E-02EC-498D-9FB3-0A0FAC1C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2A07DA-8802-4F6B-B8DF-2F7FC6C1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DF5E5C-ACBC-4A01-B8A2-E6FA2827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FB4455-45BE-4734-8576-0735ABE6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0B5330-94EB-4BFF-8013-039D3F03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390F4E-E6F1-474C-BB23-6D181F22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1BAE3F-935F-4B15-B449-D87B71BB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30C7-83E6-4D17-B0EC-CFC5940E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42453C-D0E1-4D48-8061-0AEEB651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A7431-68D7-4D98-A303-01701BB2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7257D5-E783-4715-8C23-86BCD675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C0215-B440-4B96-991D-21473BEB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F102BD-9116-42D7-A59D-9CB9491A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345BC-0F7D-407F-A481-51E26BF2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E637F-CBE4-4E41-9B41-CE3A7904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765AE8-83E7-4623-8B10-EB600FC4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9540CA-6949-4806-8596-1C6E3585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9B7014-430C-48DC-B2D9-58CC8C61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6B8F-11AA-46AD-88D0-46F48EA4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8F08E9-BC55-4216-A44D-CD96FC3E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E6B4E2-5E19-4EF7-AD55-8FC7E99D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ABB9B-FE88-48E5-BFE9-06E9B351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6705F2-C632-4451-8119-7852042D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606022-970C-4B41-B652-DAA8631F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D50010-B279-4B75-A913-CA941B35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E58D4A-B1BD-4F88-B592-545575E9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348361-D340-408D-9A47-863F6A30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47E182-5D20-4303-A322-81858C72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0C5F56-090D-44BA-A31A-E56E3F3D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E0C9-6D70-41C7-AAAA-AF88F63B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26EA3B-51E0-47DC-A8F7-26890678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D44030-E24B-47F8-A4CD-1B137ED0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4F56D2-6F2A-4E80-A841-CA082ECF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7077F2-EAD9-4A44-8F56-D0F4399C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5AA026-40E6-47E8-9F19-94AAFCB3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3ED9AD-2A6A-4B45-A0D7-1944415D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BD8B2F-E670-432C-A65A-F98A7A70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BD5194-865C-4C7B-86E4-3043268C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B678EF-6974-458E-A5AB-F7F1AD80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E8FD21-8F1E-4373-96B4-4E9E6BC0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FBC4-5133-4241-AFE9-FE9FD0B5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38BAED-CB41-4B6C-9E12-FA607A01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03E353-A6CE-46FD-A91F-59D7AE1F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B7025-CE89-4886-9EB1-108EE93C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7FC498-6286-4A7C-8C92-E820B63A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4329FD-C52E-4200-832A-2AB67E40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5EC662-C946-425D-97B1-1B8F2B4B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61A475-20CA-4CA3-8F8E-16A6937D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3324EF-986F-47A0-A393-F46A413B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BBAB66-0C6A-4FAD-B1C8-1A19B67B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03B55F-EEDB-4FE9-B1F6-E64A1B2D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FBAD0E-A9B2-40ED-BC8B-3E24507D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E43700-2460-4207-8404-D0149BCC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F26BA3-07C6-459A-BB85-E7FD97F2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7F5-C409-41D6-823B-0B96C189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299E-0A42-4C9B-9DEF-BA9A509F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7582A-5337-4A74-9DBB-D2919DFE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7E3C7-D781-4F7C-9F70-9C424AA1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860-CEF2-4985-AA35-B39B71A1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FCBD2-80C0-4B72-BBBE-CB3B9BE4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A022F-C2E7-4EDF-B71D-1D4DF993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2DCB9-84A7-44CB-A36B-687731F2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4636D-855E-4D8A-A87D-F1C87237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6079F-3CB0-4B37-9C97-445CDC9A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E81E8-B16C-4950-9D7E-167DDF86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D38D2-1B8C-4387-A7A7-785A3A72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827B6-CD3E-4BBB-8F77-4F71C0BD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5A575-D6A5-40F5-B55A-8CA2F8BD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D0FF0-BF18-4048-90B3-93B7AE5C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774-0D53-4DB5-A5EF-177FC3B8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38273-F1B1-46FE-855E-4053F994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1B4E3-E975-402D-9FCB-2707794E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C0E6E-A341-4B31-ADD9-A22A341C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E4BE0-DE61-4403-A1FE-B0F338D8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89FD8-8B6C-4AAC-8C03-59515952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0DCB9-8396-4F22-A519-0490CCD3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47D88-F3E4-4B48-ACDE-FF527368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6FAB2-E804-4FC4-AE46-E261F4BA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B4948-8D3C-4E41-BD98-0BE9B736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19E31-1B2E-40D6-95D5-7E8283F3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25D-1535-435F-852C-6D5953CD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987AD-BF2B-42FD-B2A5-92513082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60753-FD35-4E28-BFCB-D3CB74D5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A0F0A-BC10-45A2-BEBB-E0F01C30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EF722-DF3A-489E-9EEB-E8AF29C7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9D3EA-38D3-4633-B2FC-E8EF8470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481B3-1F03-4DC8-8370-E7434E1B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C3D3E-92B2-4021-9039-9351BA66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480DC-E713-42E8-AB77-0459D16C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6AE10-5E83-4BB8-8058-B1F2A927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78A40-7018-4AF1-921B-5CE27D9C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D36-5A3D-4A86-B0E6-C1AF4C24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09885-2360-4E60-B4E6-5EFEC9AB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6C96C-8440-4423-A147-F61FA333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32052-F96F-40F3-A635-92D419DD9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2A021-F104-4060-BC5D-56562415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B2AA4-15AB-40FF-9114-C7C8EF81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BD4B7-8F81-41F2-9C36-15757C48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0D4DB-D693-4338-826D-8AA36DAF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E8E3B-1EE1-4401-BDB9-6416D2DE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07F46-FCD7-4477-88E3-E576E71F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91344-7047-4A99-9A8D-5B224E4D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0F5-4CF5-4617-9979-F6498E3B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225C6-9CBE-49C8-99E9-B58909F1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02401-A84A-4837-8FD3-7D1FEFD3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0F91D-9D4A-41E7-8C90-CBFF3068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68CBB-1D8D-41FF-BD42-6B68FA58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18AB6-8401-4A5B-A6D2-5DB5736F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CEE48-FF65-4CF0-804E-8BD3BE96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186BE-5B4D-4F4A-9936-08D24D0C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E8660-44B1-4592-A98D-A49B02EC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20AC7-4AF8-48E8-BD43-B253EE06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9FE4C-DFAE-40FF-96CC-A40CB01C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9C5-C8AD-4586-89C9-988A05E9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B9596-67FA-4384-93DD-BA078E0B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9E8EC-59B8-4A5F-AAF8-099EF93B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6FE18-F893-42E2-8C5B-91B4F6EA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123F8-6866-4AEC-9965-88035042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B99F0-A4E0-4F92-A32D-982271F6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5D233-E31A-4B8A-A870-B37883B7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E74E2-8645-49EE-9550-09B68839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A8002-891F-4F9B-B2B7-423330FB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9A70E-9753-4FE3-AC48-D75A73EF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121DA-F069-4BC0-B516-F6E0738C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F32C-9ACA-4493-9656-B077B6EC44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F9EE-496F-467A-83B5-FBC3A5A642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9B22-28A8-435E-8B70-32EEA8942A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E0D7-E75A-404C-9DCC-32929D2547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7F1E-D751-41AA-BEE3-43D7F1FD81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DCF2-E43B-475F-8202-9E778AA8D5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2C64-6378-43A0-A774-CB054F0071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B0A9-AA86-4AC7-A931-351953B127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282F-A1EB-4A60-8BEE-09A1995A66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DF2E-440F-48EE-9140-507806E157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E254-74EC-457B-BFF3-F5E54CAE57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E894-89BB-4D4E-9C63-88136AC525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8E85-47BF-47DF-AADA-5AA28122E7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0F51-80D6-477D-991E-3F8AA87DE1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CFA6-23F0-40AE-B827-8B1B4F84F7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F6CE-0593-4ABE-9F22-C2AAE9E0D6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C991-BC1D-470B-84A5-908354F401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D7AE-52BE-4972-A52C-706182A825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8BDF-1568-43D8-8397-C62402213A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985F-A8A7-4C76-8FE1-A122FD2396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3F92-BB30-4327-A2F5-C22296942C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071F-09D0-4AA8-8064-E01EDA6C84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AC12-FA72-4E8B-BE20-46A340153D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8E97-98C5-4997-B51A-8D1593194C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71E3-F768-4096-8127-A7DE996174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FA43-C980-4FD6-AD01-7D594B4CA9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62B6-2D52-43B5-B455-E7AFEE55DD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41F8-3710-48F4-A9E2-DAA0ECEB5B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D54C-9FE1-43A3-9F62-E4B3A884AD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F9A8-3431-4F43-B127-CFDD38AA20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1C12-83A6-44A5-9117-35D218322A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F5C5-BB16-49CE-A21F-3D58C78AF6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28CB-3E9E-4D5A-9747-136D10477A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5A6D-2318-4583-AD2B-20B34BD399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C913-255E-4F9F-BD2C-782440B459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BC13-62F7-4E52-8404-7EC8B2F5C4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6DED-64DF-4974-A6A1-D8FA630338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D192-599A-4F99-B716-9FF93A79D6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A42A-19B5-4B7A-9BB9-F614D9F495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2700360" y="2181240"/>
            <a:ext cx="3743280" cy="124776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052" descr=""/>
          <p:cNvPicPr/>
          <p:nvPr/>
        </p:nvPicPr>
        <p:blipFill>
          <a:blip r:embed="rId2"/>
          <a:stretch/>
        </p:blipFill>
        <p:spPr>
          <a:xfrm>
            <a:off x="314280" y="3543480"/>
            <a:ext cx="8515440" cy="103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73" name="组合 13315"/>
          <p:cNvGrpSpPr/>
          <p:nvPr/>
        </p:nvGrpSpPr>
        <p:grpSpPr>
          <a:xfrm>
            <a:off x="250920" y="189000"/>
            <a:ext cx="8488440" cy="6553080"/>
            <a:chOff x="250920" y="189000"/>
            <a:chExt cx="8488440" cy="6553080"/>
          </a:xfrm>
        </p:grpSpPr>
        <p:pic>
          <p:nvPicPr>
            <p:cNvPr id="1074" name="图片 13313" descr=""/>
            <p:cNvPicPr/>
            <p:nvPr/>
          </p:nvPicPr>
          <p:blipFill>
            <a:blip r:embed="rId1"/>
            <a:stretch/>
          </p:blipFill>
          <p:spPr>
            <a:xfrm>
              <a:off x="404640" y="932040"/>
              <a:ext cx="8334720" cy="58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图片 13314" descr=""/>
            <p:cNvPicPr/>
            <p:nvPr/>
          </p:nvPicPr>
          <p:blipFill>
            <a:blip r:embed="rId2"/>
            <a:stretch/>
          </p:blipFill>
          <p:spPr>
            <a:xfrm>
              <a:off x="250920" y="189000"/>
              <a:ext cx="5533920" cy="63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图片 14337" descr=""/>
          <p:cNvPicPr/>
          <p:nvPr/>
        </p:nvPicPr>
        <p:blipFill>
          <a:blip r:embed="rId1"/>
          <a:stretch/>
        </p:blipFill>
        <p:spPr>
          <a:xfrm>
            <a:off x="538200" y="1233360"/>
            <a:ext cx="8067600" cy="4391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914400" y="13240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971640" y="3068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5"/>
          <a:stretch/>
        </p:blipFill>
        <p:spPr>
          <a:xfrm>
            <a:off x="900000" y="39337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6"/>
          <a:stretch/>
        </p:blipFill>
        <p:spPr>
          <a:xfrm>
            <a:off x="971640" y="4869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5" name="图片 22529" descr=""/>
          <p:cNvPicPr/>
          <p:nvPr/>
        </p:nvPicPr>
        <p:blipFill>
          <a:blip r:embed="rId1"/>
          <a:stretch/>
        </p:blipFill>
        <p:spPr>
          <a:xfrm>
            <a:off x="309600" y="1405080"/>
            <a:ext cx="8524800" cy="40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835280" y="4797360"/>
            <a:ext cx="1081080" cy="449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4356000" y="4797360"/>
            <a:ext cx="108108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7236000" y="4811760"/>
            <a:ext cx="1081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1" name="图片 21505" descr=""/>
          <p:cNvPicPr/>
          <p:nvPr/>
        </p:nvPicPr>
        <p:blipFill>
          <a:blip r:embed="rId1"/>
          <a:stretch/>
        </p:blipFill>
        <p:spPr>
          <a:xfrm>
            <a:off x="1700280" y="1957320"/>
            <a:ext cx="5743440" cy="29433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2556000" y="4362480"/>
            <a:ext cx="93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5219640" y="4349880"/>
            <a:ext cx="1728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20481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039080" cy="5981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835280" y="1844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835280" y="3645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835280" y="5445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8193" descr=""/>
          <p:cNvPicPr/>
          <p:nvPr/>
        </p:nvPicPr>
        <p:blipFill>
          <a:blip r:embed="rId1"/>
          <a:stretch/>
        </p:blipFill>
        <p:spPr>
          <a:xfrm>
            <a:off x="1328760" y="1771560"/>
            <a:ext cx="6486480" cy="33148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1763640" y="364500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9217" descr=""/>
          <p:cNvPicPr/>
          <p:nvPr/>
        </p:nvPicPr>
        <p:blipFill>
          <a:blip r:embed="rId1"/>
          <a:stretch/>
        </p:blipFill>
        <p:spPr>
          <a:xfrm>
            <a:off x="157320" y="785880"/>
            <a:ext cx="8829360" cy="52862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3780000" y="4394160"/>
            <a:ext cx="64764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6732720" y="5300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52" name="组合 10243"/>
          <p:cNvGrpSpPr/>
          <p:nvPr/>
        </p:nvGrpSpPr>
        <p:grpSpPr>
          <a:xfrm>
            <a:off x="539640" y="1628640"/>
            <a:ext cx="8056800" cy="3235320"/>
            <a:chOff x="539640" y="1628640"/>
            <a:chExt cx="8056800" cy="3235320"/>
          </a:xfrm>
        </p:grpSpPr>
        <p:pic>
          <p:nvPicPr>
            <p:cNvPr id="1053" name="图片 10241" descr=""/>
            <p:cNvPicPr/>
            <p:nvPr/>
          </p:nvPicPr>
          <p:blipFill>
            <a:blip r:embed="rId1"/>
            <a:stretch/>
          </p:blipFill>
          <p:spPr>
            <a:xfrm>
              <a:off x="547560" y="1628640"/>
              <a:ext cx="804888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图片 10242" descr=""/>
            <p:cNvPicPr/>
            <p:nvPr/>
          </p:nvPicPr>
          <p:blipFill>
            <a:blip r:embed="rId2"/>
            <a:stretch/>
          </p:blipFill>
          <p:spPr>
            <a:xfrm>
              <a:off x="539640" y="4168800"/>
              <a:ext cx="4848480" cy="69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2627280" y="17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5867280" y="3471840"/>
            <a:ext cx="1081080" cy="4492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5"/>
          <a:stretch/>
        </p:blipFill>
        <p:spPr>
          <a:xfrm>
            <a:off x="1619280" y="4292640"/>
            <a:ext cx="936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0" name="图片 12289" descr=""/>
          <p:cNvPicPr/>
          <p:nvPr/>
        </p:nvPicPr>
        <p:blipFill>
          <a:blip r:embed="rId1"/>
          <a:stretch/>
        </p:blipFill>
        <p:spPr>
          <a:xfrm>
            <a:off x="128520" y="955800"/>
            <a:ext cx="8886960" cy="52099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4211640" y="2938320"/>
            <a:ext cx="280836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4643280" y="4710240"/>
            <a:ext cx="417672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1476360" y="5575320"/>
            <a:ext cx="11509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图片 11265" descr=""/>
          <p:cNvPicPr/>
          <p:nvPr/>
        </p:nvPicPr>
        <p:blipFill>
          <a:blip r:embed="rId1"/>
          <a:stretch/>
        </p:blipFill>
        <p:spPr>
          <a:xfrm>
            <a:off x="452520" y="855720"/>
            <a:ext cx="8238960" cy="58863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3348000" y="2679840"/>
            <a:ext cx="2664000" cy="449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1547640" y="3573360"/>
            <a:ext cx="216072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5076720" y="5330880"/>
            <a:ext cx="3382920" cy="449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1116000" y="6208560"/>
            <a:ext cx="1079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6:47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